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B6F-4024-44A2-B45F-A5A41F88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1A9-EE8A-47FF-944A-3AF0368C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BEBB-5457-41CE-B329-F91C2178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C79-35CD-4DFB-8E87-644B5C31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A853-38A3-452F-8453-8DDF0774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74D7-DD99-4F01-940E-99064385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910F-18EF-4A32-BFC3-26ACE995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342F-FE01-478E-84F8-4D15DA64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B27-52D9-4F49-81C4-F10B7EA6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7BD-30C6-46BE-9A6B-97D2DC46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F81-E448-412A-ACCA-71B31ABF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C711-4901-425F-809D-366E7B5E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D6AD-680E-4026-979D-A40E17FE4F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LFWAY  100TH                   WEST  BARNS  100TH                   LAURIESTON  100TH                        CALLLENDAR  MW                  CLYDESDALE ASSOC       STRANRAER PRIVATE INDO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4" descr="Halfway 10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74960" cy="136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5" descr="West Barns 100th.jpg"/>
          <p:cNvPicPr/>
          <p:nvPr/>
        </p:nvPicPr>
        <p:blipFill>
          <a:blip r:embed="rId2"/>
          <a:stretch/>
        </p:blipFill>
        <p:spPr>
          <a:xfrm>
            <a:off x="2000160" y="333360"/>
            <a:ext cx="1158840" cy="124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6" descr="Laurieston 100th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3657600" y="404640"/>
            <a:ext cx="102060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Callendar MW 5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097600" y="404640"/>
            <a:ext cx="1317600" cy="12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lydesdale Assoc.jpg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81960" y="620640"/>
            <a:ext cx="958680" cy="94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Stranraer Private.jpg"/>
          <p:cNvPicPr/>
          <p:nvPr/>
        </p:nvPicPr>
        <p:blipFill>
          <a:blip r:embed="rId6"/>
          <a:stretch/>
        </p:blipFill>
        <p:spPr>
          <a:xfrm>
            <a:off x="8193240" y="549360"/>
            <a:ext cx="1020600" cy="10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orunna 6.jpg"/>
          <p:cNvPicPr/>
          <p:nvPr/>
        </p:nvPicPr>
        <p:blipFill>
          <a:blip r:embed="rId7"/>
          <a:stretch/>
        </p:blipFill>
        <p:spPr>
          <a:xfrm>
            <a:off x="415800" y="1989000"/>
            <a:ext cx="1204920" cy="1195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RUNNA                                BON  ACC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n Accord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1227240" cy="125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n Accord  23.jpg"/>
          <p:cNvPicPr/>
          <p:nvPr/>
        </p:nvPicPr>
        <p:blipFill>
          <a:blip r:embed="rId9">
            <a:lum bright="40000"/>
          </a:blip>
          <a:stretch/>
        </p:blipFill>
        <p:spPr>
          <a:xfrm>
            <a:off x="3440160" y="2060640"/>
            <a:ext cx="128916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06-03T18:34:00Z</dcterms:modified>
  <cp:revision>115</cp:revision>
  <dc:subject/>
  <dc:title>Slide 1</dc:title>
</cp:coreProperties>
</file>